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169-EACD-4CB8-8A53-BAD72BDD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52C-372F-4875-AB38-5075205D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43B-B2E8-493A-8786-C2CB5612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70E-27CD-4499-8A24-366F4B38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6D86-C2A8-4E72-945A-41150005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04BC-58A6-4C18-9D3C-754BB3F5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3F6E-1F94-4AC2-B575-374EA364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246A-763D-42DC-BBE7-1DA2697C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C4DD-BFC5-4DB0-A097-0BB45ACC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6B1A-0E8C-448E-ACEA-7F80C18D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108E-73A8-43DE-909C-80018EF3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82F-FD81-4DB5-8762-C6B97CD1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0FE1-AC09-4162-B012-DE8A426C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B030-DC74-4AC8-8558-24EF0C30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3494-EBA2-4543-9C3A-11429390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AB62-FDC7-49C1-9C72-607D0504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2B6D-6691-4761-B892-D9B738D5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D93-AC20-440A-8DA6-A93A55F4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581-F86D-471F-9084-1BA39E38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97C-E11A-4E02-8A08-53768F7B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7DE-F83C-4434-B826-80275782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B48-F112-4C69-B162-7B9447A0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2CA-C8A3-474D-B85D-B064092F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000-C0E9-4CE2-B539-2AD18E4F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44A6-5014-4B70-AAB9-55AE7C31A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D94C-FA5A-444C-961A-FE8469C0B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14.xml"/><Relationship Id="rId12" Type="http://schemas.openxmlformats.org/officeDocument/2006/relationships/slide" Target="slide24.xml"/><Relationship Id="rId13" Type="http://schemas.openxmlformats.org/officeDocument/2006/relationships/slide" Target="slide34.xml"/><Relationship Id="rId14" Type="http://schemas.openxmlformats.org/officeDocument/2006/relationships/slide" Target="slide16.xml"/><Relationship Id="rId15" Type="http://schemas.openxmlformats.org/officeDocument/2006/relationships/slide" Target="slide26.xml"/><Relationship Id="rId16" Type="http://schemas.openxmlformats.org/officeDocument/2006/relationships/slide" Target="slide36.xml"/><Relationship Id="rId17" Type="http://schemas.openxmlformats.org/officeDocument/2006/relationships/slide" Target="slide18.xml"/><Relationship Id="rId18" Type="http://schemas.openxmlformats.org/officeDocument/2006/relationships/slide" Target="slide28.xml"/><Relationship Id="rId19" Type="http://schemas.openxmlformats.org/officeDocument/2006/relationships/slide" Target="slide38.xml"/><Relationship Id="rId20" Type="http://schemas.openxmlformats.org/officeDocument/2006/relationships/slide" Target="slide20.xml"/><Relationship Id="rId21" Type="http://schemas.openxmlformats.org/officeDocument/2006/relationships/slide" Target="slide30.xml"/><Relationship Id="rId22" Type="http://schemas.openxmlformats.org/officeDocument/2006/relationships/slide" Target="slide40.xml"/><Relationship Id="rId23" Type="http://schemas.openxmlformats.org/officeDocument/2006/relationships/audio" Target="../media/jeop.wav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0" y="17524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94320" y="3168720"/>
            <a:ext cx="63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ll is used in all aspects excep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71800" y="312408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ying a pa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99960" y="2971800"/>
            <a:ext cx="676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used to enclose a quot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in a quo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892520" y="3168720"/>
            <a:ext cx="50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ngle quotation marks ‘ ’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224720" y="3048120"/>
            <a:ext cx="70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using a fraction as an adj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needs to be done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891440" y="3168720"/>
            <a:ext cx="294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d a hyph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. Two-thi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26920" y="2971800"/>
            <a:ext cx="737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eferring to something being spoken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use out loud or aloud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57600" y="3200400"/>
            <a:ext cx="13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ou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059920" y="3048120"/>
            <a:ext cx="486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the Ku Klux Klan 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Klu Klux Kl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78160" y="312408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u Klux Kl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19080" y="3200400"/>
            <a:ext cx="710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prostate gland or prostrate gla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893960" y="3168720"/>
            <a:ext cx="58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’s the difference betwe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ert and desser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9400" y="2819520"/>
            <a:ext cx="740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ert means to abondon or a dry, ari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ce and dessert is the fin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urse of a me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94320" y="3168720"/>
            <a:ext cx="54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definitely or definately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352680" y="3124080"/>
            <a:ext cx="23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initel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90000" y="3225960"/>
            <a:ext cx="711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ds lik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ig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choo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an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iv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tc.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capitalized only when…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432880" y="3048120"/>
            <a:ext cx="458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used as part of or 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of a proper no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90840" y="3276720"/>
            <a:ext cx="789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fference between weather and wheth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222920" y="3048120"/>
            <a:ext cx="69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ather: rain, snow, hail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ther: which or whichever of tw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071360" y="2971800"/>
            <a:ext cx="71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extra exclamation and ques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ks appropriate for formal wri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887640" y="31240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54840" y="312408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95400" y="32004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fference between beside and besid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C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604880" y="2743200"/>
            <a:ext cx="61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side: next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sides: in addition to or excep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523880" y="3048120"/>
            <a:ext cx="61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s far a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s fast a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ll the farth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ll the fast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211480" y="2971800"/>
            <a:ext cx="44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s far a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s fast 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76520" y="2971800"/>
            <a:ext cx="60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alian is pronounced like w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041000" y="312408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a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299960" y="2971800"/>
            <a:ext cx="70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capitalize school subjects wh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756440" y="2819520"/>
            <a:ext cx="52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they are languages 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followed by a numb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983600" y="2743200"/>
            <a:ext cx="54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bingd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bingt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278160" y="281952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ngd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36280" y="3048120"/>
            <a:ext cx="739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commas where they are need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mmy Anderson who graduated from Avon High Schoo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ted his alma mater yesterda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451520" y="2819520"/>
            <a:ext cx="67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and whom refer to what, wh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or that refer to what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C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63320" y="2895480"/>
            <a:ext cx="831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or whom: refers to 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or that: animals, objects, or concep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64400" y="2819520"/>
            <a:ext cx="59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mmy Anderson, who graduated from Av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School, visited his alma mater yesterda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881000" y="3317760"/>
            <a:ext cx="48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it all the people or all of the peop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8120" y="3276720"/>
            <a:ext cx="27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the 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92520" y="3168720"/>
            <a:ext cx="457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do you spell out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 or 133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12040" y="31240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04</cp:lastModifiedBy>
  <dcterms:modified xsi:type="dcterms:W3CDTF">2010-05-19T18:42:51Z</dcterms:modified>
  <cp:revision>16</cp:revision>
  <dc:subject/>
  <dc:title>Jeopardy</dc:title>
</cp:coreProperties>
</file>